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A03-88F1-4CD2-B97B-D59914F6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924-089C-4299-B6DF-2A2CEF94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A10-9697-49A0-8A4E-73862A58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CEF-0B6F-4380-A10E-8577BC2F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5D5-DC46-4772-913D-B104F532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5C93-758D-4087-97A9-9A99D4C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3262-B272-4698-BEF2-2C10543B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13B-F54A-47A4-A6D0-16CBA4F7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F16-1843-497B-916C-707AED87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7465-4E1D-4A3D-938F-E2F0EAFC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F41E-E33F-4C4F-A9C0-679CB45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EAC-4B2D-4C52-8616-8B0B616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08C3-7AFB-428C-B31F-48490F7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FF83-6A6A-45AC-ABBF-0C09D59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DB0B-1FEE-40C1-8B7C-2B897D11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7C0-F1D0-4435-88F0-D8920E50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5D6-EC49-4972-9A46-029C29C0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4F8-CEEE-418A-A52D-CB2E987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A1F-71B6-4A90-BB55-92158E4A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DAC-7A5B-404C-95DE-1976E42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533-BD54-4ADA-93A5-71F6660B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2D5-61FC-4702-B3D1-2F37442A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F28-E907-4E6B-951F-408B6B9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0DA-3FCF-47F2-A0EA-B80FE10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427-E5D2-4AC4-B3B4-36D577C53705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82B6-D28E-4596-AF3B-1EB738D3F163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aeaea"/>
                </a:solidFill>
                <a:latin typeface="Times New Roman"/>
              </a:rPr>
              <a:t>РЕЦЕНЗИРАЊЕ РАДОВА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Доц. др Снежана Радован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Доц. др Драган Васиљеви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техничке провере, рад бива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леђен уреднику, ако су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чки критеријуми задовољени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су може бити враћен ауторима на корекцију ил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к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мах одбијен.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дник,  након  пријема  рада, доноси одлуку да ли је садржај рада у складу са тематиком часописа, да ли садржи све елементе научног рада,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је од „интереса“ за часопис. Уколико процени да јесте, рукопис прослеђује у процес рецензирањ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2560" y="1773000"/>
            <a:ext cx="7567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дник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тр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рад не задовољава критеријуме за објављивање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дмах га одбија. Најчешћи разлози за одбијање рада без рецензије су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је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рад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 из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ласти којом се бави часопис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 није технички у складу са упутством или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се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рада уреднику не чини довољно важном за публиковање у часопису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ји је он уредник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ерес уредник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пронађе компетентне, одговорне и поуздане рецензенте.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ор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ената се разликује од часописа до часопис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опис захтева од аутора да при подношењу рада предложе потенцијалне рецензенте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гу, али не морају бити прихваће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 него прихвати позив за рецензирање, рецензент мора проценити да ли је довољно компетентан да оцени рад.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описи при позиву за рецензирање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ју три опције одговора: прихватам да рецензирам, одбијам да рецензирам и нисам компетентан за област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дници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избору рецензенат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а да избегну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нцијални сукоб интереса између аутора и рецензента (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 стога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е  би  требало  да  пошаљу позив сарадницима аутора, њиховим колегама  из  институције,  сарадницима  на  пројекту  и слично)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екад је веома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о ангажовати компетентног рецензента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јер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тоје научне области које су  врло  уске,  са  малим  бројем  истраживача и малим бројем часописа који се баве одређеним темама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ент треба да оцени да ли је истраживање оригинално и актуелно,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инос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уц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 ли оправдана потреба за сазнањем које се стиче из резултата наведеног истраживања</a:t>
            </a:r>
            <a:r>
              <a:rPr b="0" lang="sr-Latn-R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се процени да је неопходно, од аутора се може тражити и дорада, другачији приступ, извођење других или другачијих експерименат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другачија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к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рад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ата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 часописи рецензентима на располагање стављају рецензентски лист са дефинисаним питањима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оје се најчешће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збором једне  од  понуђених опција.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цензентски лист садржи и део у који је могуће унети текст у слободној форми. Обично један  намењен  ауторима  (и  уреднику)  и  други  само  за  уредника  (поверљива  комуникациј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цензент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а да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ауторима и уреднику образлож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је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е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да да смернице и инструкције како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иговати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пис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што детаљније опише сваку своју примедбу, сугестију, запажање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 би рад, био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о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љи и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тетнији и прихватљив за објављивањ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98900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цензирањ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ова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 кључни елемент који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гућава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овање  новог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ригиналног научног сазнања ја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о представља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о  процеса  публиковања  резултата  научних истраживањ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ада прими све рецензентске извештаје, уредник доноси одлуку о раду. Она може бити коначна: прихватање или одбијање, или да се рад са рецензијама и сугестијама проследи ауторима на дораду и исправ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што аутори доставе нову, (кориговану/допуњену/измењену) верзију рада, уредник може донети коначну одлуку (одбијен или прихваћен рад) или може рукопис проследити рецензенту који је тражио да види коригован рад и поново га проце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процес се може понављати све до тренутка када уредник сматра да има довољно елемента да може донети коначну одлу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ници одлуку о раду доносе на основу најмање две рецензије, иако број рецензија није ограничен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лучају када су две рецензије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отне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уредник не траж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датну, он се може, у складу са својом улогом, приклонити ставу једне од те две рецензије.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 једини овлашћен и одговоран да донесе одлу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ни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може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узети улогу рецензента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 из било ког разлога не доби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ругу рецензију.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екад се догађа да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 добије више рецензија са супротним мишљењем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о се решава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ажовањем додатног рецензент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66320" y="1989000"/>
            <a:ext cx="7543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што је рад прихваћен за штампу, преусмерава се на техничку обраду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исање, техничке корекције садржај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ко су резултати квалитетни, нови, занимљиви, корисни за научну заједницу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штво у целини, рецензент треба да допринесе да се рад публикуј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5640" y="1844640"/>
            <a:ext cx="75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штина самог процеса рецензирањ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 да се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 публиковања резултати подвргавају оцени  ваљаности, вредности и оригинал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остоји институционализовано образовање за обављање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ирања, већ се рецензирање заснива на з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њ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пракс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 се или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узимају од  старијих колега  или  се стичу време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images (21)"/>
          <p:cNvPicPr/>
          <p:nvPr/>
        </p:nvPicPr>
        <p:blipFill>
          <a:blip r:embed="rId1"/>
          <a:stretch/>
        </p:blipFill>
        <p:spPr>
          <a:xfrm>
            <a:off x="8028000" y="404640"/>
            <a:ext cx="7714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ирање је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 важан сегмент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оцесу објављивања научних рад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ултати сваког научног истраживања морају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ручно оценити од стране експерата –рецензената пре него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о постану јавно доступни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слања рада часопису,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дник часописа позива релевантне експерте да оцене рад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 рецензената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кује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дају свој стручни допринос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оношењу одлуке о коначној судбини рада –одбијање  или  публиковање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рецензента се очекује да на основу свог знања и доступне литературе процен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родостојност, тачност и вредност презентованих података и резултата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укаж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ање неправилности у садржају ра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цес рецензирања има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них мана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р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ент може пропустити да препозна нетачан резултат.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ли упркос свему томе рецензирање је битан сегмент у процесу публиковања радо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дношењу рада, аутори обично назнач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м типу рада припада њихов  рукопис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ешк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ис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ратк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аопштењ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,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ригиналн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учни или стручни рад, прегледни рад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Рецензент  то  мора  имати  у  виду,  јер  тип  рада дефинише и његову структуру, садржај, опширност и изглед. Рецензент, међутим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сугерише и промену типа рада у зависности од процене садржаја и резултат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4256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што је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респондирајући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утор подне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рукопис, члан уредништва часописа задужен за прелиминарни преглед рада (то може бити и сам уредник, његов помоћник или технички уредник) проверава да ли је рад у складу са Упутством за ауторе и основним стандардима часопис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57:46Z</dcterms:created>
  <dc:creator>soclek</dc:creator>
  <dc:description/>
  <dc:language>en-US</dc:language>
  <cp:lastModifiedBy>soclek</cp:lastModifiedBy>
  <dcterms:modified xsi:type="dcterms:W3CDTF">2020-04-21T10:52:30Z</dcterms:modified>
  <cp:revision>37</cp:revision>
  <dc:subject/>
  <dc:title>VEŠTINE KOMUNIKACIJE</dc:title>
</cp:coreProperties>
</file>